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911B-ECF2-4F2C-A284-A26F63C7907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 alternative here is to hand out cut up questions in a pile. In pairs, learners turn over questions and ask/answer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65BD-FBFE-4F52-A69E-3A25DB00D8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o vary this, you can swop roles halfway through, so the journalist becomes the doctor and the doctor becomes the journa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638C-4714-431F-9BD5-2B5BB3EEDB1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 alternative is to print out the interview and cut it up. Then learners match the answers to the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7BF0-B44B-47DB-97CA-9FD1B786CB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may need a review of the format and language of a formal le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5475-A955-42C3-8A3B-4EED274364D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-c   2-f   3-a   4-e   5-b   6-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6087-3F57-4FDC-9403-DE90D0A20B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other option is to use the website link with an option to zoom in and out: http://www.newint.org/features/2012/09/18/illegal-drugs-facts-infographic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9D15-3C8B-4934-8276-0D08F8140AB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udents can read on-line or you could print out the text on handou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18B0-99D4-4551-9060-9B8EECB7D7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listen for errors and elicit corrections after the role-pl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8464-CC77-4C47-A015-480AAB11405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0469-30C4-40AE-A8CE-2F551A08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03C2-473D-40ED-A86D-7FC3613A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8F94-7EFC-4307-B7E4-2CAFF0488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4487-9458-4901-9F98-B9F2DAD7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0E6B-8543-43B0-A62E-991D76B3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D2FA-2D39-4EAE-9D51-00767C69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D838-2EBC-4173-9C44-62A8808E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812D-A0CF-486F-AD41-667E25AD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7C7C-014C-4D68-AA39-9E4735F2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A348-15FF-4F30-9804-F573B8D3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ACD0-6A21-478C-81F5-E7B98CF3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316C-DF93-49BE-9470-6905E330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21F7-3574-4B71-922E-AB5A063B5675}" type="slidenum">
              <a:rPr b="0" lang="en-GB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901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9280" y="4005360"/>
            <a:ext cx="79930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New Internationalist Easier English lesson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Upper Intermediate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3" descr="NI logo 2.jpg"/>
          <p:cNvPicPr/>
          <p:nvPr/>
        </p:nvPicPr>
        <p:blipFill>
          <a:blip r:embed="rId2"/>
          <a:stretch/>
        </p:blipFill>
        <p:spPr>
          <a:xfrm>
            <a:off x="5802480" y="476280"/>
            <a:ext cx="2277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-360" y="333000"/>
            <a:ext cx="86425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) Why would making drugs legal make things better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2) Would making drugs legal increase the use of dangerous drug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3) How could we protect children and young people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4) After drugs were made legal, how would you control them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5) We can make drugs legal. But isn’t it better to change the way people think?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6) Isn’t it true that drug takers can’t think clearly? So isn’t it a good idea to protect drug takers themselve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404280"/>
            <a:ext cx="85694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7) If drugs were legal, would there be a private free market for drug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8) Would hard drugs become cheap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9) Should some drugs be illegal for health or social reason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0) Is it possible there will still be a “black” market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1) Has anyone tried legalizing drugs and been successful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2) Would legalization happen everywhere quickly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3) Where can I find more information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3024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7200" y="3357360"/>
            <a:ext cx="82296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ttp://eewiki.newint.org/index.php/If_all_drugs_were_legal,_what_would_happen%3F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In pairs, write a letter to your country’s leader:  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- summarize some of the arguments for legalizing drugs 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- say if you think this should happen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- and why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412120" cy="1439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http://www.newint.org/features/2012/09/01/illegal-drugs/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http://www.newint.org/features/2012/09/01/drugs-legalization/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Introduction: speaking and vocabulary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Reading: for detail and for gist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Speaking: role-play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18120" indent="-488520">
              <a:spcBef>
                <a:spcPts val="1349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List all the illegal drugs you know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  <a:p>
            <a:pPr marL="618120" indent="-488520">
              <a:spcBef>
                <a:spcPts val="1349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Book Antiqua"/>
              </a:rPr>
              <a:t>List all the reasons you can think of for making illegal drugs legal</a:t>
            </a:r>
            <a:endParaRPr b="0" lang="en-US" sz="5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50560" y="1341000"/>
            <a:ext cx="403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ecstasy, cocaine, heroin, cannabis, amphetamines, marijuana and opi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prohibi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illici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legaliz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psycho-activ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decriminiliz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649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650880" indent="-514440">
              <a:spcBef>
                <a:spcPts val="649"/>
              </a:spcBef>
              <a:buClr>
                <a:srgbClr val="000000"/>
              </a:buClr>
              <a:buSzPct val="65000"/>
              <a:buFont typeface="Book Antiqu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187880" y="1341360"/>
            <a:ext cx="47052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a) illega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b) makes your brain chang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c) these are illegal drug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d) making something no longer a crim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e) making something lega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Book Antiqua"/>
              </a:rPr>
              <a:t>f) not allowing something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263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The next slide shows lots of facts about drugs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You have 5 minutes study this and try to remember as many facts about drugs as you can. Then tell each other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9" name="Picture 3" descr="drugs info.jpg"/>
          <p:cNvPicPr/>
          <p:nvPr/>
        </p:nvPicPr>
        <p:blipFill>
          <a:blip r:embed="rId1"/>
          <a:stretch/>
        </p:blipFill>
        <p:spPr>
          <a:xfrm>
            <a:off x="4211640" y="196920"/>
            <a:ext cx="334980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0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7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1" name="Content Placeholder 3" descr="drugs info.jpg"/>
          <p:cNvPicPr/>
          <p:nvPr/>
        </p:nvPicPr>
        <p:blipFill>
          <a:blip r:embed="rId1"/>
          <a:stretch/>
        </p:blipFill>
        <p:spPr>
          <a:xfrm>
            <a:off x="47520" y="168120"/>
            <a:ext cx="90964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Find as many reasons as possible for legalizing or decriminalizing drugs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ttp://eewiki.newint.org/index.php/Make_drugs_lega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Compare with other learners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What questions do you have about drugs being made legal?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Write some questions in pair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eg. If all drugs were legal, what would happen?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In pairs, A is a journalist and B is a doctor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A needs to interview the doctor about what would happen if all drugs were legal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A ask and B answer some of the questions on the next 2 slides: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0T19:08:39Z</dcterms:created>
  <dc:creator>Mix</dc:creator>
  <dc:description/>
  <dc:language>en-US</dc:language>
  <cp:lastModifiedBy>Mix</cp:lastModifiedBy>
  <dcterms:modified xsi:type="dcterms:W3CDTF">2012-10-28T16:14:23Z</dcterms:modified>
  <cp:revision>19</cp:revision>
  <dc:subject/>
  <dc:title>DRUGS</dc:title>
</cp:coreProperties>
</file>